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0DE3-99A1-4416-95D0-424E70C1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C46B-7C70-4103-9D2D-C1249206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2EC5-6454-49D2-8FA7-0855969F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78C-73D0-4616-B4F3-7BB60116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6EC1-8A10-4B83-A13A-48E4FA01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4C4-11FF-4F1E-ADE1-1F8263B9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01AB-448E-432A-BDA6-BE93341D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1DE3-2FE0-4DB3-A404-81B0C54C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108E-BFC5-4BCC-9BAE-B7BA889C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6219-8FB8-467F-83D5-50A0550C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5E8A-0053-4796-B615-26E060FD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71A-ABCF-4C19-9580-8BF77D03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CD72-CA9F-4DD4-9D86-FC72A5656D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FC95-69D9-4395-ACF7-430BE796F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Grafik 1" descr=""/>
          <p:cNvPicPr/>
          <p:nvPr/>
        </p:nvPicPr>
        <p:blipFill>
          <a:blip r:embed="rId2"/>
          <a:stretch/>
        </p:blipFill>
        <p:spPr>
          <a:xfrm>
            <a:off x="611280" y="6524640"/>
            <a:ext cx="419040" cy="14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B46A-3D65-4EA0-8800-58DC9D01E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elle Programmierspr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wickelt im Medien-Labor des 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E63E-8ABC-49F9-91EC-57B26B2CD68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24CB6-B69A-4E8A-AC31-073F34B39B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„AB2.2 Muster zeichnen.pdf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7C8E-6A8D-46DC-BE94-E432739D318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9EAA7-DBA8-429A-AD17-2346E1C6D3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2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ostüm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3516480" cy="4608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ihr Aussehen änd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4507-B7B3-48AC-9D86-26BE3363DBA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EBBCF-9E93-434E-A209-772F80EFB4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läng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5399280" cy="384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Klänge abspi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96DA-CC0D-4724-944E-DEB6B4078C6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FD177-CD47-4056-B686-C71779825A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ispiel Kostüme + Klä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kt „Kostüme+Klänge.sb2“ vorfü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ostüme erstellen, ändern, im Skript verwenden; Klänge im Skript einfü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6687-41C8-4160-908F-4BA1CC4E3E2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157C8-3ED5-4B39-B29F-C11DDD6835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408720" cy="865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as erste Spiel -&gt;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64000" y="1267920"/>
            <a:ext cx="35388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el für einen Spieler (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 bewegt sich auf dem Spielfeld und prallt am Rand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 bewegt horizontal mit der Maus einen Schläger, um zu verhindern, dass der Ball den unteren Rand berüh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638600" cy="3467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050920" y="3645000"/>
            <a:ext cx="576360" cy="428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576360" cy="428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468360" y="1628640"/>
            <a:ext cx="2448000" cy="1224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68360" y="2852640"/>
            <a:ext cx="180000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339640" y="2852640"/>
            <a:ext cx="86364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547640" y="1844640"/>
            <a:ext cx="503280" cy="2890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411280" y="3068280"/>
            <a:ext cx="360360" cy="431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56000" y="3933720"/>
            <a:ext cx="3240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492360" y="4724280"/>
            <a:ext cx="22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E72E-BFB9-46CB-A440-286A482155A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1BC3E-AE5E-47CE-9833-BCF2470E1D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rbereitung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tzenfigur lö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ühne vorbereiten -&gt; am unteren Rand dünnes farbiges Rechteck 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läger und Ball ergän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 -&gt; aus der Figurenbibliothek hinzufü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läger -&gt; neue Figur zeichnen (ausgefülltes Rechteck; Drehpunkt in die Mitte des Rechtecks setzen; y-Koordinate ungefähr -1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F7E-140D-4629-BB4A-241173B46D3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0E381-DDD7-4574-A219-A5F7652FA0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139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ripte zur Bewegung der Figuren ergänz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Schläger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5714" r="0" b="0"/>
          <a:stretch/>
        </p:blipFill>
        <p:spPr>
          <a:xfrm>
            <a:off x="1547640" y="3284640"/>
            <a:ext cx="3313440" cy="1911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840200" y="33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3429000"/>
            <a:ext cx="3095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Schläger ist zu Beginn an der Position (0;-12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ch die Bewegung der Maus kann der Schläger nach links und rechts verschob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5275-62CA-4E75-88FA-E405B11461C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325EF-8B45-4057-9888-AA9FDACC41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4896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Ball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4392720" cy="4174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92720" y="2205000"/>
            <a:ext cx="345600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startet bei der Position (0;160) mit einer zufällig gewählten Richtung zwischen 135° und 225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bewegt sich fortlaufend um 5 Schritte und prallt nach einiger Zeit vom Rand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er Schläger berührt, so wird die Bewegungsrichtung auf einen Wert zwischen -30° und 30° gesetzt und es ertönt ein Aufprall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llt der Ball nach unten, also berührt den farbigen Streifen, so hält das Programm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0779-FF77-4B56-B979-BDFEC07A470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0D345-F156-4B8B-8CF0-044EC2039F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ähler einbauen für die Anzahl der „Rückschläge“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w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8EF3-7E1B-4660-9401-1262C6C7329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FB11E-0446-4665-B008-A82EBA4D40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0360" y="1628280"/>
            <a:ext cx="41972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altfläche „Dat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ton „Neue Variable“ anklicken und Variablennamen fest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ble kann jetzt im Skript verwende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203640" cy="3384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H="1">
            <a:off x="1835280" y="1773360"/>
            <a:ext cx="2665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2349360"/>
            <a:ext cx="2663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5DF6-1473-4566-A5B4-289B61A5260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C0395-21D7-4A08-8D80-E3B164A8A3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CC BY-SA 3.0 D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. Bir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C373-0870-4560-90D1-EDF3C64D7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ipt -&gt; Stapel aus Programmierblöc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095640" cy="160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4427640" y="2349360"/>
            <a:ext cx="3809880" cy="1229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500720" y="378936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Gerade Verbindung mit Pfeil 2"/>
          <p:cNvCxnSpPr/>
          <p:nvPr/>
        </p:nvCxnSpPr>
        <p:spPr>
          <a:xfrm flipH="1">
            <a:off x="1978920" y="1413000"/>
            <a:ext cx="43236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1700-FDE7-4D45-867E-572CE9B0926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5D83A-8927-4C48-809D-5B617AB8DE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584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ändertes Skript für den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933720" cy="4465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6292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4788000" y="1197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ählvariable erscheint links oben auf der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643280" y="148428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162-7718-4327-857A-BDE560A9AF2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FD3F7-2DCB-455B-913C-1C8FB0245E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echnen in 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2736720" cy="140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665440" cy="1515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16360" y="1700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ennst du ein Muster in diesen Produk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1773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nen mit Re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059280" y="4508640"/>
            <a:ext cx="3960720" cy="1535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87640" y="407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fallsza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216360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B295-ADA9-4554-B9D9-77CDD794F8D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57D24-9274-46C4-AE0F-4BBB3BD296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hempfehl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supereasy: Einfacher Einstieg in SCRATCH und PYTHON“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310-2700-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mit Scratch – Arbeitsheft“, Herdt-Verlag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6249-239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Learn to program with Scratch“, ISBN 978-1-59327-543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2920-5E50-4748-9D5D-FAEBE83B7FA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5283F-BD06-401A-A9CE-B24CC095D7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liennummernplatzhalter 5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D7D9-F806-4078-8D54-9597B69DB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84360" y="404640"/>
            <a:ext cx="5903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ratch Programmierumgeb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>
            <a:alphaModFix amt="0"/>
          </a:blip>
          <a:srcRect l="-5" t="-7" r="-5" b="-7"/>
          <a:stretch/>
        </p:blipFill>
        <p:spPr>
          <a:xfrm>
            <a:off x="826920" y="1700280"/>
            <a:ext cx="6337440" cy="4240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7164360" y="1844640"/>
            <a:ext cx="165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üh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Objektlis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lock-Palet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Script-Fe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619280" y="1844640"/>
            <a:ext cx="1440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10"/>
          <p:cNvCxnSpPr/>
          <p:nvPr/>
        </p:nvCxnSpPr>
        <p:spPr>
          <a:xfrm flipV="1" rot="10800000">
            <a:off x="212328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58" name="Text Box 11"/>
          <p:cNvSpPr/>
          <p:nvPr/>
        </p:nvSpPr>
        <p:spPr>
          <a:xfrm>
            <a:off x="2700360" y="98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-Bal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3924360" y="1844640"/>
            <a:ext cx="1008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AutoShape 13"/>
          <p:cNvCxnSpPr/>
          <p:nvPr/>
        </p:nvCxnSpPr>
        <p:spPr>
          <a:xfrm flipV="1" rot="10800000">
            <a:off x="442692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61" name="Text Box 14"/>
          <p:cNvSpPr/>
          <p:nvPr/>
        </p:nvSpPr>
        <p:spPr>
          <a:xfrm>
            <a:off x="5076720" y="1052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sor-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e 1"/>
          <p:cNvSpPr/>
          <p:nvPr/>
        </p:nvSpPr>
        <p:spPr>
          <a:xfrm>
            <a:off x="1403280" y="1844640"/>
            <a:ext cx="216000" cy="287280"/>
          </a:xfrm>
          <a:prstGeom prst="ellipse">
            <a:avLst/>
          </a:prstGeom>
          <a:noFill/>
          <a:ln w="507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Gerade Verbindung mit Pfeil 3"/>
          <p:cNvCxnSpPr>
            <a:endCxn id="62" idx="0"/>
          </p:cNvCxnSpPr>
          <p:nvPr/>
        </p:nvCxnSpPr>
        <p:spPr>
          <a:xfrm>
            <a:off x="1510920" y="1347840"/>
            <a:ext cx="1080" cy="497520"/>
          </a:xfrm>
          <a:prstGeom prst="straightConnector1">
            <a:avLst/>
          </a:prstGeom>
          <a:ln w="31680">
            <a:solidFill>
              <a:srgbClr val="72bfc5"/>
            </a:solidFill>
            <a:miter/>
            <a:tailEnd len="med" type="arrow" w="med"/>
          </a:ln>
        </p:spPr>
      </p:cxnSp>
      <p:sp>
        <p:nvSpPr>
          <p:cNvPr id="64" name="Textfeld 4"/>
          <p:cNvSpPr/>
          <p:nvPr/>
        </p:nvSpPr>
        <p:spPr>
          <a:xfrm>
            <a:off x="709560" y="9414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ache än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E744-7003-4282-B1CE-CBAA990CB53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5CCC6-6C72-4805-821D-1DBAE2EDF0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A515-9E0F-497D-AD78-758D6568C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324000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12000" y="1557360"/>
            <a:ext cx="2674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ühne ist wie eine Koordinaten-Ebene mit Punkte (0;0) im Mittelpun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wegung des Maus-Cursors zeigt die Koordinaten (x;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5616360" cy="424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1297080" cy="345960"/>
          </a:xfrm>
          <a:prstGeom prst="rect">
            <a:avLst/>
          </a:prstGeom>
          <a:ln w="0">
            <a:noFill/>
          </a:ln>
        </p:spPr>
      </p:pic>
      <p:sp>
        <p:nvSpPr>
          <p:cNvPr id="70" name="Line 6"/>
          <p:cNvSpPr/>
          <p:nvPr/>
        </p:nvSpPr>
        <p:spPr>
          <a:xfrm flipH="1">
            <a:off x="6084360" y="5157720"/>
            <a:ext cx="28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2CBB-482C-4F62-A30C-CE9A2B1A97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7BCBB-0FB3-4332-B24B-F5C46743AC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1C16-462E-4C60-B2A9-6E6DE0E76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4686480" cy="4010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611280" y="620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äsentationsmo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116000" y="1197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k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276720" y="76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üne Flagge -&gt; Start des Projek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6012000" y="1700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er Punkt -&gt; Projekt be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H="1">
            <a:off x="5364000" y="1916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4932360" y="134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176364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1042920" y="981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92360" y="260280"/>
            <a:ext cx="360036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6DD8-0530-4642-8E24-262530214F9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BF510-90C5-4718-8469-B9A8BA3F0B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C303-94DA-4171-94CE-93FF7FB2E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068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nli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4638600" cy="1685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4500720" y="213372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 aus Bibliothek wä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932360" y="2492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e Figur 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4859280" y="256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5076720" y="2852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940360" y="321300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Figur1 mit Button i (linke obere Ecke) für Figureigenscha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042920" y="23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die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 flipH="1">
            <a:off x="2555640" y="371628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1476360" y="2997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1116000" y="4365720"/>
            <a:ext cx="863640" cy="4316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 flipV="1">
            <a:off x="1547640" y="479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906120" y="515772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für die Erstellung neuer Bühnenb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3335040" cy="1117800"/>
          </a:xfrm>
          <a:prstGeom prst="rect">
            <a:avLst/>
          </a:prstGeom>
          <a:ln w="0">
            <a:noFill/>
          </a:ln>
        </p:spPr>
      </p:pic>
      <p:sp>
        <p:nvSpPr>
          <p:cNvPr id="97" name="Line 20"/>
          <p:cNvSpPr/>
          <p:nvPr/>
        </p:nvSpPr>
        <p:spPr>
          <a:xfrm>
            <a:off x="7308720" y="4365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6EA8-D159-4E08-A156-90A495B9C68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A1709-0168-47D1-B70B-7047126A7E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DA26-A906-4777-9A4F-1304F76FA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erblöc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unterteilt in 10 Kategorien (Palet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3241800" cy="22636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195640" y="2349360"/>
            <a:ext cx="216036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4149720"/>
            <a:ext cx="32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öc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b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odiert zum leichten Auffinden verwandter Blö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87280" y="4508640"/>
            <a:ext cx="2592720" cy="128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>
            <a:off x="3779640" y="49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F989-9C50-449F-9077-CA87C21337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0426A-FA47-4ADA-9C9D-FDD4CBBE38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sbeispi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atch-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tivationsbeispiel.s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ratch – Hallo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e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123-C25E-46D0-A197-E320099F951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C5551-64FD-423D-825E-1009B5CF2B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3E34-0239-49FE-A99E-3EEAE32B5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</a:t>
            </a: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AB1 Die Scratch-Programmierumgebung.pdf“ mit Datei „Einstiegsbeispiel.sb2“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adadad"/>
                </a:solidFill>
                <a:latin typeface="Arial"/>
              </a:rPr>
              <a:t>alternativ „AB1.2 Die Scratch-Programmierumgebung.pdf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599E-4437-4C4D-9D11-373AAE7CAC3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D381B-99C6-4422-AF0D-F9A9E372DE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0T16:43:43Z</dcterms:created>
  <dc:creator>G. Birke</dc:creator>
  <dc:description/>
  <dc:language>en-US</dc:language>
  <cp:lastModifiedBy>G. Birke</cp:lastModifiedBy>
  <dcterms:modified xsi:type="dcterms:W3CDTF">2017-09-24T16:55:15Z</dcterms:modified>
  <cp:revision>17</cp:revision>
  <dc:subject/>
  <dc:title>Scratch</dc:title>
</cp:coreProperties>
</file>